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023F-E5CD-4242-B03D-0DA6D56A40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 alternative here is to hand out cut up questions in a pile. In pairs, learners turn over questions and ask/answer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8C7D-EA58-44F6-A850-CDB389C528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vary this, you can swop roles halfway through, so the journalist becomes the doctor and the doctor becomes the journa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8E22-6FF6-4418-9F0C-7ED615FF234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 alternative is to print out the interview and cut it up. Then learners match the answers to the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70B9-EDD7-4C67-8E74-81C858B5DB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may need a review of the format and language of a formal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3EAB-18FB-4587-8DD8-B03AD95F00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-c   2-f   3-a   4-e   5-b   6-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6220-77F3-4E27-90D1-28A3FADF34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other option is to use the website link with an option to zoom in and out: http://www.newint.org/features/2012/09/18/illegal-drugs-facts-infographic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9C7C-7941-4196-BD17-5EAE3659E81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udents can read on-line or you could print out the text on hando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5908-F0EE-4F6C-B234-59BF0A49FC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listen for errors and elicit corrections after the role-p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80B6-3935-4349-ADAA-ED11F195DF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FEBA-D82D-42BF-B971-DECDAB9E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DBAA-BF6F-4B28-B309-4BF1A067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D594-CF9A-456D-AD69-7B8E08C9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B9D1-809E-47C6-9D52-7C817AC6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A85E-F86D-4ED9-B8C3-5207B414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C53D-5B36-4500-8760-277456AE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D595-0FDC-47BC-B974-2565994D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E690-9C30-4859-8354-38DF5A8B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5C9A-1B87-4A71-B13E-0CB8E5E8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87E7-97F3-4ADB-9F01-3903CC41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1E6-284D-470E-930F-2D769A88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E0C1-B00F-49BA-9EEE-EA64E6CC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D6D8-24AF-41E8-AD08-D59EB60973CD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901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9280" y="4005360"/>
            <a:ext cx="7993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New Internationalist Easier English lesson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Upper Intermediate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3" descr="NI logo 2.jpg"/>
          <p:cNvPicPr/>
          <p:nvPr/>
        </p:nvPicPr>
        <p:blipFill>
          <a:blip r:embed="rId2"/>
          <a:stretch/>
        </p:blipFill>
        <p:spPr>
          <a:xfrm>
            <a:off x="5802480" y="476280"/>
            <a:ext cx="2277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-360" y="333000"/>
            <a:ext cx="8642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) Why would making drugs legal make things better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2) Would making drugs legal increase the use of dangerous drug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3) How could we protect children and young people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4) After drugs were made legal, how would you control them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5) We can make drugs legal. But isn’t it better to change the way people think?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6) Isn’t it true that drug takers can’t think clearly? So isn’t it a good idea to protect drug takers themselve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404280"/>
            <a:ext cx="8569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7) If drugs were legal, would there be a private free market for drug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8) Would hard drugs become cheap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9) Should some drugs be illegal for health or social reason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0) Is it possible there will still be a “black” market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1) Has anyone tried legalizing drugs and been successful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2) Would legalization happen everywhere quickly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3) Where can I find more information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3024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3357360"/>
            <a:ext cx="82296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If_all_drugs_were_legal,_what_would_happen%3F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In pairs, write a letter to your country’s leader:  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- summarize some of the arguments for legalizing drugs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- say if you think this should happen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- and why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412120" cy="1439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http://www.newint.org/features/2012/09/01/illegal-drugs/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http://www.newint.org/features/2012/09/01/drugs-legalization/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Introduction: speaking and vocabulary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Reading: for detail and for gist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Speaking: role-play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18120" indent="-488520">
              <a:spcBef>
                <a:spcPts val="13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List all the illegal drugs you know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marL="618120" indent="-488520">
              <a:spcBef>
                <a:spcPts val="13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List all the reasons you can think of for making illegal drugs legal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50560" y="1341000"/>
            <a:ext cx="403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ecstasy, cocaine, heroin, cannabis, amphetamines, marijuana and opi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prohibi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illici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legaliz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psycho-act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decriminiliz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6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6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187880" y="1341360"/>
            <a:ext cx="47052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a) illega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b) makes your brain chang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c) these are illegal drug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d) making something no longer a crim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e) making something lega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f) not allowing something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263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The next slide shows lots of facts about drugs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You have 5 minutes study this and try to remember as many facts about drugs as you can. Then tell each other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9" name="Picture 3" descr="drugs info.jpg"/>
          <p:cNvPicPr/>
          <p:nvPr/>
        </p:nvPicPr>
        <p:blipFill>
          <a:blip r:embed="rId1"/>
          <a:stretch/>
        </p:blipFill>
        <p:spPr>
          <a:xfrm>
            <a:off x="4211640" y="196920"/>
            <a:ext cx="334980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7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1" name="Content Placeholder 3" descr="drugs info.jpg"/>
          <p:cNvPicPr/>
          <p:nvPr/>
        </p:nvPicPr>
        <p:blipFill>
          <a:blip r:embed="rId1"/>
          <a:stretch/>
        </p:blipFill>
        <p:spPr>
          <a:xfrm>
            <a:off x="47520" y="168120"/>
            <a:ext cx="90964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Find as many reasons as possible for legalizing or decriminalizing drug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Make_drugs_leg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Compare with other learners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What questions do you have about drugs being made legal?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Write some questions in pair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eg. If all drugs were legal, what would happen?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In pairs, A is a journalist and B is a doctor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A needs to interview the doctor about what would happen if all drugs were legal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A ask and B answer some of the questions on the next 2 slide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19:08:39Z</dcterms:created>
  <dc:creator>Mix</dc:creator>
  <dc:description/>
  <dc:language>en-US</dc:language>
  <cp:lastModifiedBy>Mix</cp:lastModifiedBy>
  <dcterms:modified xsi:type="dcterms:W3CDTF">2012-10-28T16:14:23Z</dcterms:modified>
  <cp:revision>19</cp:revision>
  <dc:subject/>
  <dc:title>DRUGS</dc:title>
</cp:coreProperties>
</file>